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E22F-34C7-48B2-9CB8-E9ED5C1BC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techniques for mini-projects  and in disser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an ejournal written by Comms system le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677-EE23-4D1F-8894-55928E51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978-16A2-4F79-A85C-AC55CB02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45B-B819-41AE-B800-4FBCB28C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9BF-7710-428E-A417-29F9821D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099-C06A-47F8-9E98-90F5897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7C9-F9FE-47BC-A536-9AF414B2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8E0-6BEE-4124-8559-4AF5AA6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203-19DF-4449-8234-C9644E76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609-8A33-459F-BC7E-91AD1E87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C83-F5AF-4A3A-98C9-92F2DFD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C1F-274F-4E43-B1E4-CFE4811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E3E-D6AE-42E9-9D88-0FAC76E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5EE-439F-4E10-99FA-122BC2EA47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5E2-79E3-4510-990D-FAA09C15D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rebuchet MS"/>
              </a:rPr>
              <a:t>Reading Research Reports</a:t>
            </a:r>
            <a:endParaRPr b="0" lang="en-US" sz="4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819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Robert Blake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Trebuchet MS"/>
              </a:rPr>
              <a:t>Student Learning Development Centre</a:t>
            </a:r>
            <a:endParaRPr b="0" lang="en-US" sz="29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810-94BD-4C33-A1C2-2E8699771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any scientific &amp; engineering reports are based on an IMRaD structur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troduc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tho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sult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  </a:t>
            </a: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336699"/>
                </a:solidFill>
                <a:latin typeface="Trebuchet MS"/>
              </a:rPr>
              <a:t>   </a:t>
            </a:r>
            <a:r>
              <a:rPr b="1" i="1" lang="en-US" sz="2800" spc="-1" strike="noStrike">
                <a:solidFill>
                  <a:srgbClr val="336600"/>
                </a:solidFill>
                <a:latin typeface="Trebuchet MS"/>
              </a:rPr>
              <a:t>A</a:t>
            </a:r>
            <a:r>
              <a:rPr b="0" i="1" lang="en-US" sz="2800" spc="-1" strike="noStrike">
                <a:solidFill>
                  <a:srgbClr val="336600"/>
                </a:solidFill>
                <a:latin typeface="Trebuchet MS"/>
              </a:rPr>
              <a:t>nd</a:t>
            </a: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scuss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  some reports there is also a conclusion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Can you trace an IMRaD structure in this  article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If the terms are different, what are they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609-2E36-4372-9B45-CBAEC41D3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 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ilst many scientific &amp; engineering reports are based on an IMRaD structure.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t the same time there may also be a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Situa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Problem 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             patter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Solu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6600"/>
                </a:solidFill>
                <a:latin typeface="Trebuchet MS"/>
              </a:rPr>
              <a:t>Evalua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 some reports this may be recursive- repeated until an appropriate solution is reach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2852640"/>
            <a:ext cx="649440" cy="1800360"/>
          </a:xfrm>
          <a:custGeom>
            <a:avLst/>
            <a:gdLst>
              <a:gd name="textAreaLeft" fmla="*/ 0 w 649440"/>
              <a:gd name="textAreaRight" fmla="*/ 234360 w 6494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92D-0B0A-4093-A99C-4F389AB82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- IMR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other strategies &amp; information  did you use to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elp you work out th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main idea of the articl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628-4EF4-4BA8-83F0-AEDD300B10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e’ve been using the 1st stage of</a:t>
            </a: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rebuchet MS"/>
              </a:rPr>
              <a:t>SQ3R 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e 5 stages are:</a:t>
            </a:r>
            <a:r>
              <a:rPr b="1" i="1" lang="en-US" sz="3200" spc="-1" strike="noStrike">
                <a:solidFill>
                  <a:srgbClr val="000066"/>
                </a:solidFill>
                <a:latin typeface="Trebuchet MS"/>
              </a:rPr>
              <a:t>               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RVEY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Q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ES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A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CAL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16056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E42-9ECC-4C8D-8F5F-39068C8BD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-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Once you have an idea of the overall structure by surveying the text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reduce your processing load when you come to read the article closely.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then work out the structure &amp; meaning of smaller chunk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also identify which bits to glide over and which bits to concentrate 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5D2-7D95-4F38-8F57-0760EB732A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Q3R- Questioning</a:t>
            </a:r>
            <a:r>
              <a:rPr b="0" lang="en-US" sz="1800" spc="-1" strike="noStrike">
                <a:solidFill>
                  <a:srgbClr val="008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86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 2nd stage of SQ3R i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to ques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s involv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aking questions about what you want to learn from the articl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dopting a critical i.e. evaluative frame of min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99A-4397-42D4-9748-7279886B1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Question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y formulate question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ing to answer specific questions allows you to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more purposefully &amp; ‘time-efficiently’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give you points to look out for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llows you to glide over unimportant section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eans that you’re reading critically- interacting with the content and evaluating, thereby reading at postgrad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8C6-8929-4A8C-84E0-B2C0DA059D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Question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557000"/>
            <a:ext cx="71625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rebuchet MS"/>
              </a:rPr>
              <a:t>   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Now use your knowledge of the article from the surveying stage to make 3-4 questions about the topic of the article [maximum 5 minutes]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sort of questions did you formulate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FF4-A621-44FB-ACB0-3B62C772E0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ad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086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Spend 10 minutes reading the articl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ith the purpose of finding answers to your question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228-3D28-487F-B005-DB2156BE2D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ad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questions did you ask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Did you succeed in finding answers to your question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well has surveying &amp; questioning worked so fa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66A-FA18-4FC3-8841-C5CF9D5B39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is session cover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search report structure in           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ommunication System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fficient reading techniqu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712800" indent="-71280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avoiding plagiarism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B14-2422-4F30-8889-E2B38620E1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 &amp; Review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629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 final two stages ar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cal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ecall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- unless you have a remarkable memory you’ll probably forget 50% of what you read, shortly after reading. So you’ll need make a deliberate attempt to recall the key ideas &amp;/or take no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475-0DFD-4380-A869-9CC69FF0D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can record your notes in a number of ways including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Linear no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low diagram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Mind maps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6C5-54D2-4FAF-B460-0B58C5B8E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An example of Mind maps from Tony Buza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http://www.mind-map.com/EN/mindmaps/how_to.html</a:t>
            </a: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2209680"/>
          <a:ext cx="67816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781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F82-05D7-47BF-B197-017F888AD0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134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se subordination to identify the importance of information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key information on the left hand sid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detailed points in the middle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omments &amp; questions on the right hand side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9F2-AE61-402E-9A91-B3764859AB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Trebuchet MS"/>
            </a:endParaRPr>
          </a:p>
          <a:p>
            <a:pPr marL="285840" indent="-285840">
              <a:lnSpc>
                <a:spcPct val="1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ymbols and abbreviations can save valuable time, enabling you to write less and identify the main points more efficiently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9BB-7EB3-49D7-B919-ACF4CE0E60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call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hen taking notes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member </a:t>
            </a: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on each page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of your notes to record author[s], year, title of book or journal, article name,+ pages if journal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paraphrase the key idea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put quotations i.e. any identical chunks of the original article  in speech marks “”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These techniques will help you to avoid plagiarism, the serious offence of using other people’s ideas as if they were your ow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F27-2442-4048-A392-71FCC3EF4C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345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 Review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Review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How well can you recall the key ideas? Look at your questions. Can you still remember the answers?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f not, reread to refresh your knowledge and fill the gaps in your knowledge 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B This is very useful for test and exam revision!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B1A-81FD-45B1-9C99-C5470784A5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511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87D-C139-4B69-9209-7515D880C8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rebuchet MS"/>
              </a:rPr>
              <a:t>Which Of These Is Plagiarism?</a:t>
            </a:r>
            <a:endParaRPr b="0" lang="en-US" sz="20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1. Copying a paragraph verbatim from a source without any acknowledgement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2. Copying a paragraph and making small changes - e.g. replacing a few verbs, replacing an adjective with a synonym; acknowledgement in the bibliography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3. Cutting and pasting a paragraph by using sentences of the original but omitting one or two and putting one or two in a different order, no quotation marks; with an in-text acknowledgement plus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4. Composing a paragraph by taking short phrases from a number of sources and putting them together using words of your own to make a coherent whole with an in-text acknowledgement +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5. Paraphrasing a paragraph by rewriting with substantial changes in language and organisation; the new version will also have changes in the amount of detail used and the examples cited; citing in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6. Quoting a paragraph by placing it in block format with the source cited in text &amp; bibliography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172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[Carroll J. 2000   </a:t>
            </a:r>
            <a:r>
              <a:rPr b="0" i="1" lang="en-US" sz="1400" spc="-1" strike="noStrike">
                <a:solidFill>
                  <a:srgbClr val="000066"/>
                </a:solidFill>
                <a:latin typeface="Trebuchet MS"/>
              </a:rPr>
              <a:t>Teaching News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  November, 2000. Based on an exercise in </a:t>
            </a:r>
            <a:r>
              <a:rPr b="0" i="1" lang="en-US" sz="1400" spc="-1" strike="noStrike">
                <a:solidFill>
                  <a:srgbClr val="000066"/>
                </a:solidFill>
                <a:latin typeface="Trebuchet MS"/>
              </a:rPr>
              <a:t>Academic Writing for Graduate Students</a:t>
            </a: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 by Swales and Feale, University of Michigan, 1993] on http://www.ilt.ac.uk/resources/Jcarroll.htm Accessed 12/05/2003 ]</a:t>
            </a:r>
            <a:endParaRPr b="0" lang="en-US" sz="1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24E-A593-4D8F-8FD0-D373F19B7E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734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3000"/>
          <a:ext cx="748836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48836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39680" y="5659920"/>
            <a:ext cx="90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Purdue University, http://owl.english.purdue.edu/handouts/research/r_plagiar.html accessed 14 May 20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197-AA40-438D-8282-FC0C995AF2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How we read?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First a question about reading skills in general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do you read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novel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newspape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ssessment feedback  on a mini-projec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the blurb on a DVD or video film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 letter from your partner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FBC-9592-4E63-AABA-B8B3BC8A1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Avoiding Plagiarism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Practise paraphrasing from the beginning of your course look at: 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Trebuchet MS"/>
              </a:rPr>
              <a:t>http://owl.english.purdue.edu/handouts/research/r_paraphr.html</a:t>
            </a:r>
            <a:endParaRPr b="0" lang="en-US" sz="26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Trebuchet MS"/>
              </a:rPr>
              <a:t>http://www.uefap.com/writing/report/rep_para.htm</a:t>
            </a:r>
            <a:endParaRPr b="0" lang="en-US" sz="26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Remember to reference </a:t>
            </a:r>
            <a:r>
              <a:rPr b="1" lang="en-GB" sz="2700" spc="-1" strike="noStrike">
                <a:solidFill>
                  <a:srgbClr val="000066"/>
                </a:solidFill>
                <a:latin typeface="Trebuchet MS"/>
              </a:rPr>
              <a:t>all original ideas</a:t>
            </a: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 that are not common knowledge 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rebuchet MS"/>
              </a:rPr>
              <a:t>http://www.uefap.com/writing/citation/citefram.ht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39480" indent="-339480">
              <a:spcBef>
                <a:spcPts val="675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rebuchet MS"/>
              </a:rPr>
              <a:t>Remember that software programs are used to detect plagiarism from the internet &amp; plagiarism between students on the same course</a:t>
            </a:r>
            <a:endParaRPr b="0" lang="en-US" sz="27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718-F4AB-4D6B-B47D-B0F571DABE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 :SQ3R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If you want to read more about SQ3R,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see Rowntree’s excellent book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Derek Rowntree (1998) Learn How to Study,Warner Book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E6F-3597-4C80-B8F0-854E20449D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Reading strategie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We change speeds &amp; depths of reading according to our purpose: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kimming and scann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light read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‘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normal’ read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intensive reading i.e. reading with great attention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critical reading to evaluate texts &amp; then  answer specific research questions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e.g. design, operation, etc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DD-A33C-4CF3-85F2-43A5D8257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</a:t>
            </a:r>
            <a:r>
              <a:rPr b="0" lang="en-US" sz="2400" spc="-1" strike="noStrike">
                <a:solidFill>
                  <a:srgbClr val="008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You have a pile of research papers to read just like the one handed to you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Are you going to read them all in depth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How are you going to make efficient use of your tim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9CA-7A3F-4B07-AB2A-D7B8E8D26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</a:t>
            </a:r>
            <a:br>
              <a:rPr sz="2800"/>
            </a:b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3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Look at either the article by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Coulton and Honary </a:t>
            </a:r>
            <a:r>
              <a:rPr b="1" lang="en-GB" sz="2800" spc="-1" strike="noStrike">
                <a:solidFill>
                  <a:srgbClr val="000066"/>
                </a:solidFill>
                <a:latin typeface="Trebuchet MS"/>
              </a:rPr>
              <a:t>or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b) Coulton, Rashid and Ahm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rebuchet MS"/>
              </a:rPr>
              <a:t>or find an article in your own scientific field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66"/>
                </a:solidFill>
                <a:latin typeface="Trebuchet MS"/>
              </a:rPr>
              <a:t>What strategies are you going to use to read i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415-A971-47EA-9958-07B52CEBE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Strategies for </a:t>
            </a:r>
            <a:r>
              <a:rPr b="0" i="1" lang="en-US" sz="2800" spc="-1" strike="noStrike">
                <a:solidFill>
                  <a:srgbClr val="008000"/>
                </a:solidFill>
                <a:latin typeface="Trebuchet MS"/>
              </a:rPr>
              <a:t>Surveying</a:t>
            </a: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 Research Reports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use the abstract to get an overview of conten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kimming &amp; scanning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the intros &amp; conclusions first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can headings &amp; sub-heading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can graphical information: tables, figur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read topic sentences &amp; concluding sentences of paragraph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glide over each paragraph to pick up key word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24E-F2BF-4F42-86DF-EC80789A0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7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Now have a go at surveying the report as a whole using the strategies just suggested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Spend about 7-8 minutes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318-11A4-4961-B744-CA792427E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rebuchet MS"/>
              </a:rPr>
              <a:t>Reading Research Reports: Surveying</a:t>
            </a:r>
            <a:endParaRPr b="0" lang="en-US" sz="2800" spc="-1" strike="noStrike">
              <a:solidFill>
                <a:srgbClr val="008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did you learn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rebuchet MS"/>
              </a:rPr>
              <a:t>What is the overall structure of this article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87F-CC6C-4213-8C92-10BC0E834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ker1</cp:lastModifiedBy>
  <dcterms:modified xsi:type="dcterms:W3CDTF">2006-11-01T12:03:10Z</dcterms:modified>
  <cp:revision>25</cp:revision>
  <dc:subject/>
  <dc:title>PowerPoint Presentation</dc:title>
</cp:coreProperties>
</file>